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F53E-9558-4359-898D-9A2BB1E5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DCC-340B-40FF-8875-D8EB0C9E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7CE-0B13-4F04-A2CA-BC4DA028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715-A8CF-476E-9CE5-75FF9F29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DAA8-7BB0-455D-A81F-CD333F02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2966-B992-4D06-8077-ECD8D801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9CC6-D8B6-47F3-9BDA-BAD70EB66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2E9C-5E23-4C25-B49E-2F341036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26C-0513-46EB-913D-27642A85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675E-8B5B-464E-80FB-34F85009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B99-1525-44A5-903D-85D46C47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9EA-D1F5-4D88-8247-F2FD60F9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8500-8D9C-4D29-90F9-86CE6179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956-75B9-4FE7-BF44-E52823C4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1F71-50C2-4C5B-9C00-50C3E49E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ED1-685B-4464-9664-E1B6C7AE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B51-D0D8-46F2-ADC9-507AA9C7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AB7-D0B1-4631-A4F7-4F44501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AE-33A8-47DC-AB9D-7BFADA0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208-F351-41D8-A000-06F9E6D6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76C-C907-4EFD-9D89-30AB3468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920-02E9-4B85-9EF5-6414D810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8AF1-E86A-4801-B444-FFDB184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C14-BAAD-4741-819B-C891366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268-F3BC-4C6F-9AF5-2E7E32C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61CE-89DE-4535-B347-8594CDA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8DA-56B1-4628-B5D9-DA49E37A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657-BBDC-448E-BC71-28D59C6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AD3-1D1C-4FCF-AE4B-99587231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4AD7-3F69-4F79-A5A8-0129E0AE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E920-9DC6-480A-B3DA-30B5B40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C28-667A-4C01-965E-E9441AA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03A9-09B5-4778-9FEB-919EA40C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3558-50B5-4FC5-9BE3-786A27BE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73C-327F-48AF-BCF0-2038E56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FC5-C487-4F7B-9D74-09CFD2C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E96-FF95-410A-B829-DF5F5CE2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D1B-13BD-4DBB-A7F0-0F67CFE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FF9-E23F-498F-A0C5-6D0662A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147-D694-4CD6-A5FC-F023027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98F-9FEB-45AD-97D4-31F1A58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17E6-E0B3-43AF-BB9D-4FCD867D53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CBEF-4FEC-423F-A0F1-AD84CB2601A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from yesterday and the corresponding expectations that you would like to consider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develop the sequence for this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4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termine the equation of a function with the following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draw a grap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use alge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did you do fir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uld you have predicted whether the ‘a’ value was positive or negative before you actually calculat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s the value of ‘a’ what you expec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need all three pieces of inform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y? Or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did you determine the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would the function change if the given point (-1, 5) changed to (-1, -5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01T18:43:04Z</dcterms:modified>
  <cp:revision>135</cp:revision>
  <dc:subject/>
  <dc:title>Slide 1</dc:title>
</cp:coreProperties>
</file>